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232472"/>
        <c:axId val="71110317"/>
      </c:barChart>
      <c:catAx>
        <c:axId val="42232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10317"/>
        <c:crosses val="autoZero"/>
        <c:auto val="1"/>
        <c:lblAlgn val="ctr"/>
        <c:lblOffset val="100"/>
        <c:noMultiLvlLbl val="0"/>
      </c:catAx>
      <c:valAx>
        <c:axId val="71110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32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1796-E9BD-4F3B-A78B-5B25633B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1273-B888-44BD-A54A-AEC52521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7EE5-53AA-4C10-967C-17482908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A50-E7E8-42A2-8C20-8935435B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7E56-EFBF-46E2-ABA4-45DC95A2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8E6-D174-472F-9024-64A0659C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109-7979-42CD-ADC8-5AA78B29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FE4-8791-4138-9750-80C94A78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15CD-CA94-4E2C-B84E-A0B5A0C0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527-7ADE-4E4D-AD06-EF8F5BE7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7C4-8E54-4B2F-A95A-6C9497A8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A71-8C8E-4AC2-9442-A71114D7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C5D27-B915-4127-9AA9-1F914C0DBB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