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5490"/>
        <c:axId val="74642636"/>
      </c:barChart>
      <c:catAx>
        <c:axId val="8535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42636"/>
        <c:crosses val="autoZero"/>
        <c:auto val="1"/>
        <c:lblAlgn val="ctr"/>
        <c:lblOffset val="100"/>
        <c:noMultiLvlLbl val="0"/>
      </c:catAx>
      <c:valAx>
        <c:axId val="74642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5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923-33F2-405B-980B-F6BD729D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33F-774C-43C7-8EF0-162B424F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5D6-B96C-46AD-A804-9ADEF064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142-7BBE-43A2-9EAA-7EB76CFA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BD3-F1BB-4724-894B-E089B57E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7AE7-2194-4B93-A769-7CB15959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3AC-58D3-4A0D-B73C-D4E1155A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D8E-6446-43FE-ADCB-34C2A0AF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832-C814-4E5F-9E70-9C2694AE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861-3D67-40D8-ACCD-7A1AA02B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DB5-233F-44CF-956E-561B7120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7B3-506D-4C6B-AFE5-5D23ABE2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AC88D-1D47-4EF1-9A7C-9F7F591699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