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7563"/>
        <c:axId val="19803276"/>
      </c:barChart>
      <c:catAx>
        <c:axId val="8077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03276"/>
        <c:crosses val="autoZero"/>
        <c:auto val="1"/>
        <c:lblAlgn val="ctr"/>
        <c:lblOffset val="100"/>
        <c:noMultiLvlLbl val="0"/>
      </c:catAx>
      <c:valAx>
        <c:axId val="19803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7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8BF-6F0A-4BDA-94B0-92010385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9A99-EBB4-4957-A246-11A9150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301-BC8D-480E-802E-DB3D526B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69F-AA89-4F6C-AEA3-AC2AD051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3B6-11B7-4ADD-A825-4ACC0230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82C-A471-47E1-AC3E-0019863B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2F6-A874-49CD-870B-F57DE91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FA2-3DBC-4591-8441-045D2295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BF2-410E-4D2A-89E2-C6CF8CB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395-164C-4C1C-A8DD-5BCFCC3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F23-0DB5-4E1A-9145-BBD75B0C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B8B-75E0-4487-985C-7D73F41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37B64-EE70-4FA2-B125-42551CF1D8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