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59067"/>
        <c:axId val="95090700"/>
      </c:barChart>
      <c:catAx>
        <c:axId val="12959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90700"/>
        <c:crosses val="autoZero"/>
        <c:auto val="1"/>
        <c:lblAlgn val="ctr"/>
        <c:lblOffset val="100"/>
        <c:noMultiLvlLbl val="0"/>
      </c:catAx>
      <c:valAx>
        <c:axId val="95090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59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A75-8D13-47EC-BF3A-B408E71F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242-4BB9-4604-942C-F750B23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6BB-26BE-44D9-A6FB-9D44D732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148-5793-4F5F-ABA3-699082A5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4E4-3793-4005-9EAE-CB61D19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D53-4089-4CA1-A41A-72890AF6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4B9-8B65-4C90-B50C-2F29AC0D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F5F-98B8-4488-A133-901F4E09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E41-307A-43DB-9D1B-FBE4E828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864-C202-49C9-A0EB-043E788A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B35-788A-4C88-B6F8-32FCB03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5E9-8963-4BAF-A93F-07F228E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43BF5-D0E0-43C6-B568-45E550584E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