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18869"/>
        <c:axId val="261823"/>
      </c:barChart>
      <c:catAx>
        <c:axId val="38018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23"/>
        <c:crosses val="autoZero"/>
        <c:auto val="1"/>
        <c:lblAlgn val="ctr"/>
        <c:lblOffset val="100"/>
        <c:noMultiLvlLbl val="0"/>
      </c:catAx>
      <c:valAx>
        <c:axId val="26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8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1DC-2ACC-4E21-A1F2-87A03A67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2AC-BCBB-4999-9556-44B9D4DB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189-A2E7-406C-9234-828CB6BD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1E2-F98C-4900-A3D3-6B67F2C3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142-8010-4E23-B9EC-09C8315C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49A-E6A0-4AEE-B69B-2B9AA985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1CA-ECE5-42C4-ACDB-B9A34D4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8E5-9EF7-446F-BD2C-D27F21AE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68E-B7BB-4F57-8AFC-769CB4B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B44-F22A-4547-B95F-06F1CA5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CA3-BC6B-4219-8261-4949722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D97-1216-4B0E-A6B5-F04A085E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9D8D4-8759-4091-8992-E2E1F1737A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